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31EF-BFB4-43C2-8B7F-37B6AC50A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handout and link on w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handout and link on w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B9B-5F1E-4153-B5AE-47DD0EEC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7082-CBA6-468C-B4FE-A3689729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A5D-2DAF-40F9-A40A-893D09E4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792-B10E-4AE8-BC4E-1596DD6A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1CF-BAED-4752-AEC8-18E91D11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EEE6-8D2D-4822-AE57-E2C3B6C6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5F2B-1E7B-457C-B3F1-B8F79B50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DB6-F38C-4289-9C43-A6FC80AF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34E-9D24-4BF9-BD96-F94E264B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58BA-CD44-466C-86D8-B793E020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91CB-CA61-49F9-8CA3-FFD9120B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E7D0-D9B5-40CF-80F3-8FACD904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1CD1-515E-4A1B-B000-3500A07B7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 Gr 6-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23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65472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ible Grou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 group---------small group--------whol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t Spots -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97180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ck Partner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2579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meli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60600" y="1600200"/>
            <a:ext cx="744840" cy="838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15238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ing to the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1066680" cy="878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555600" y="220968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nnaiss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638680" y="4419720"/>
            <a:ext cx="990720" cy="660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782760" y="441972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Col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809880" y="5105520"/>
            <a:ext cx="85752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92360" y="601992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752480" y="3429000"/>
            <a:ext cx="843120" cy="1028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15840" y="33526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ha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 rot="17989800">
            <a:off x="2514600" y="472392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 rot="8460000">
            <a:off x="5790960" y="33526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 rot="12518400">
            <a:off x="4800600" y="51051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 rot="549600">
            <a:off x="2437920" y="22093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 rot="4624200">
            <a:off x="4495680" y="167616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ible Grouping and R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610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of DI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2489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 you fall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3200400"/>
            <a:ext cx="6172200" cy="485640"/>
          </a:xfrm>
          <a:prstGeom prst="leftRightArrow">
            <a:avLst>
              <a:gd name="adj1" fmla="val 50000"/>
              <a:gd name="adj2" fmla="val 2530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1624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Curr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and U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Curriculum and R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610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essential 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examp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352680" y="3276720"/>
            <a:ext cx="228600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360600" y="1600200"/>
            <a:ext cx="744840" cy="838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0880" y="15238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ing to the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1066680" cy="878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555600" y="220968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nnaiss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38680" y="4419720"/>
            <a:ext cx="990720" cy="660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782760" y="441972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Col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09880" y="5105520"/>
            <a:ext cx="857520" cy="1143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92360" y="601992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752480" y="3429000"/>
            <a:ext cx="843120" cy="1028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15840" y="33526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ha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 rot="17989800">
            <a:off x="2514600" y="472392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 rot="8460000">
            <a:off x="5790960" y="33526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 rot="12518400">
            <a:off x="4800600" y="51051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 rot="549600">
            <a:off x="2437920" y="22093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 rot="4624200">
            <a:off x="4495680" y="167616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Assessment and R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610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7:53:08Z</dcterms:created>
  <dc:creator>nancy.schultz</dc:creator>
  <dc:description/>
  <dc:language>en-US</dc:language>
  <cp:lastModifiedBy>nancy.schultz</cp:lastModifiedBy>
  <dcterms:modified xsi:type="dcterms:W3CDTF">2010-03-17T17:53:23Z</dcterms:modified>
  <cp:revision>1</cp:revision>
  <dc:subject/>
  <dc:title>DI Gr 6-9</dc:title>
</cp:coreProperties>
</file>